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3AC-C033-4C1B-8896-8A729F1E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89C-071B-461D-A54F-5E0C8C66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096-831F-435F-A9A5-28E5104D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3D3-D0AB-42D0-9953-113C4776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A352-5228-4A26-B155-51B4D082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0DBF-52BF-4F37-AE1A-59497531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5ED7-799A-46FB-9F6F-69906F1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5D61-9087-4F8B-89C6-380DE48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B568-0DA1-45D9-8BB6-A9EDFC0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3BB-495D-490C-A38B-D755700D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34DA-BE0C-42ED-9AD0-7B18413D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2F2-4932-4D2B-998E-0D1EFEC6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9255-13FB-44FC-930F-D2EE58FA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4C7-7A6F-4386-BDA0-3E098E9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BDFF-F12C-4739-B53C-9E83BB1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7B8A-C9E9-4505-BC25-10273284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74FA-870F-448B-B250-C22AE36C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348-5CC2-47DB-92AB-44611582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543-9297-45A5-8607-C791B746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51B-355C-4D6E-A41B-8B5B271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F12-E537-4320-9C24-2E35E1F1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618-81C9-48AB-9016-E5289A2E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78E-00CE-4D7B-82BB-2D13024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599-4217-49C9-85D7-F71F5B8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38CC-9C82-4F50-A5FA-988F8C5C5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8438-1FC4-4B65-BD80-5853D8876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1148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minder:  Tomorrow is Pi Day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is expre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870280" y="1219320"/>
          <a:ext cx="21589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1219320"/>
                    <a:ext cx="2158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33520" y="378000"/>
          <a:ext cx="13716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78000"/>
                    <a:ext cx="13716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962520" y="301680"/>
          <a:ext cx="129528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01680"/>
                    <a:ext cx="129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Lesson 9.2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rithmetic Sequ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equence whose consecutive terms have a “common difference”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equence is arithmetic if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… = 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d is the common differ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s each sequence arithmetic?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 so, find “d”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4, 9, 14, 19, 24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.5, 4.4, 5.3, 6.1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0, 15, 10, 5, 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 of an arithmetic sequence is in the form</a:t>
            </a:r>
            <a:br>
              <a:rPr sz="4000"/>
            </a:b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= dn + c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c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</a:t>
            </a:r>
            <a:br>
              <a:rPr sz="4000"/>
            </a:b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+ (n – 1)d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for an arithmetic sequence whe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5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8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the first three terms.  Find their common difference.  Write a sequence formula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rm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00;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+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- 2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7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missing arithmetic term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1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0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057400" y="182880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eck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635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1-13, 17, 21-25, 29-39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ccecff"/>
                </a:solidFill>
                <a:latin typeface="Arial"/>
              </a:rPr>
              <a:t>Worksheet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1828800"/>
          <a:ext cx="129528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12952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352680" y="1905120"/>
          <a:ext cx="11430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905120"/>
                    <a:ext cx="11430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477120" y="1981080"/>
          <a:ext cx="106668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198108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         ;  a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95280" y="1600200"/>
          <a:ext cx="114300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11430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609480"/>
          <a:ext cx="10666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1066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981080" y="457200"/>
          <a:ext cx="137160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57200"/>
                    <a:ext cx="13716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9480" y="3162240"/>
          <a:ext cx="9907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162240"/>
                    <a:ext cx="990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981080" y="3124080"/>
          <a:ext cx="1676520" cy="53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124080"/>
                    <a:ext cx="16765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3,5,7,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14400" y="2133720"/>
          <a:ext cx="411480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41148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9480" y="380880"/>
          <a:ext cx="95112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9511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191120" y="304920"/>
          <a:ext cx="137160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04920"/>
                    <a:ext cx="1371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09480" y="457200"/>
          <a:ext cx="129564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12956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724280" y="304920"/>
          <a:ext cx="90036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920"/>
                    <a:ext cx="90036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partial s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al s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380880"/>
          <a:ext cx="129528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12952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09480" y="2909880"/>
          <a:ext cx="121932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09880"/>
                    <a:ext cx="12193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00Z</dcterms:created>
  <dc:creator>jnewman</dc:creator>
  <dc:description/>
  <dc:language>en-US</dc:language>
  <cp:lastModifiedBy>abeason</cp:lastModifiedBy>
  <dcterms:modified xsi:type="dcterms:W3CDTF">2009-03-12T13:39:11Z</dcterms:modified>
  <cp:revision>8</cp:revision>
  <dc:subject/>
  <dc:title>Lesson 9.2</dc:title>
</cp:coreProperties>
</file>